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4BB7-3498-4960-9E09-D1B4AB511F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вол Израиля, основа герба Гру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DD76-2A5C-4796-A223-3413736DFB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E68F-AB58-4D75-9AC5-1D1042871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9026-F634-4FC6-A16B-054B79AC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7CDB-5161-49F4-94FA-7C2A446FE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3925-D0D6-4F05-A76D-5F969BB76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8C92-E867-48F9-9FE6-A52E390AC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AA9E-93A6-48D3-A53E-D1DFD201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34D0-5B06-408A-A226-3992310B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71A5-8955-4E5D-A63E-42CFE887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0F58-598E-4699-A313-D59C45A8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F7D4-443D-48BB-811B-50B0FF62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D735-8906-4275-A7BF-3BD24AD6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6B26-E2D3-4234-8434-E1810BF9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2AC9-AD9A-46DC-8F6F-34162B1C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C75F-257F-4606-A112-29C16A56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B471-102E-42B7-9BD4-91A0F433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74EC-920D-426C-B4F0-1D72E7293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0CFC-547C-45B9-88DB-C67321329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B9C7B-88D7-4870-AEB2-AEC51415F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D1A86-B000-4544-A897-2A24DB78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DC9C8-6E4E-4D9D-B066-FF72F35C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5D9CB-8BAA-4419-9D0A-283DF95F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90404-3AB0-4C2C-A277-E13C25BC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E132-B421-4D67-BED5-B5FFB2E9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4C55C-B0E9-4E66-830C-A6095922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FACC5-8A91-4A10-9FFD-878625BA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9FFB3-18EB-4DB8-8AFC-A46228CB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03CF2-73BF-4E83-B6CD-0D54DF81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33052-C873-4697-A296-85952E61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01F33-A064-460F-B959-B9CB9FAE2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ED6B2-33AF-4856-A975-B2429A1C6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9B423-9648-4EB4-A6DF-234C3FFC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34368-7699-4E47-ACC8-F65BC692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99188-1A91-43B5-8AB8-36C31A6C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919F-277F-446D-B537-BC3E81D3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7CC26-B574-47E3-86DC-F69F8E61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E014E-8936-4381-A637-171F52F4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7CAE7-C415-40D6-B308-84B3B3EA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A8E2F-7253-4810-991E-2CEFB9BB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2CA0E-F787-4E41-928F-7830FDF7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A3629-4E32-4C83-9045-43A11BC1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4CD6C-AEED-4DAD-87B6-F6A26FBC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128D7-E575-4C0B-925E-2F8080923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5790E-816F-4BF5-8583-57BB97DE7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A2F59-243F-4717-9344-736BF02EC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6359-A7BD-40A2-8875-0A39C82F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CB53B-7C7C-441D-AA5D-FCD0B0E3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68927-6F08-4858-89B2-681973A5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2209A-1F51-49B8-841E-6082D902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087CF-574C-4145-8440-A5770C15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FD38A-BD21-461C-9345-9650499E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22EC7-A843-4ADF-BDCC-71F8A233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A457D-8D55-45AB-B24D-0C352298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3939B-AAB3-499D-8191-D0CEC9F1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05623-60E2-4F23-BECF-2E29AD19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9B400-1637-4D97-A2F0-23C37D5F0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E8CB-EA80-4CB0-BCCC-88C274AC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77364-403E-43D1-B54F-E823E4052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BB112-4DCE-4146-B2BA-134AD080B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32E87-725C-4663-9D1A-F9181DF8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449A8-DCF3-4E93-B733-3821DE82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2B14C-4654-4BEF-9873-12DCF560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9FC57-D0F3-4AB8-BED6-D870911F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EA609-C29D-4388-ADEF-7A84C534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84190-0039-47D2-A8B7-27FE2DF5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64436-7A50-48BD-B30D-F33FDD24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AFC7A-2FE3-4D5B-A584-629D8BCD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8D67-9C2F-402F-BAE2-6AF4C836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FFA0C-F23F-4CA6-96C9-D53F0C1F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3125C-C7ED-4338-8E9D-4CF3058AB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18517-0056-4C6D-904B-3B281CDE8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692C2-B4D5-402B-B61C-089745AC0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AE226-70C7-49F8-97E9-7778CB93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026C5-2E1C-4573-BC18-89BBE780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BC309-50C1-4437-99CE-9CA77172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F44DA-8A23-4BD5-A68E-54AE8E03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EE711-1B65-4375-B2B9-51F21395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ABDE6-976E-4BF9-B25F-14B3D4C5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98D8-E809-4C77-BA66-1745A42C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9DF75-A92F-48FA-8180-0CE8F41D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A8EAE-D722-49FA-B77F-176580B3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6CC41-C5DF-4160-82F2-02382E00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3B2F5-A081-4570-A21A-67227350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01890-6899-4E6A-9CAA-C672FA194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AB6B-1F72-448B-8F44-27B86BC8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7297-1849-4476-9A88-4776DEAC4A5E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90B2-7C0A-4A24-B455-D25F0C593922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AB02-B66C-4EF4-81F3-080DB5EE35B7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8AB6-6003-4857-B9B2-35BE03E88D84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BCDC-FD0D-46D4-8C1B-76AECA1B3A71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1EA8-F12A-4B63-971E-A2F4218A7893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FA9C-DE1C-4A3A-BC76-7024D0CBFB9F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390600" y="3157560"/>
            <a:ext cx="8381880" cy="187812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28760" y="5357520"/>
            <a:ext cx="807696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и исследования учеников 8 класса: Кошкин Артем и Пышкина Наталья (циркули)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195120" y="146160"/>
            <a:ext cx="849816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4645080"/>
          </a:xfrm>
          <a:prstGeom prst="rect">
            <a:avLst/>
          </a:prstGeom>
          <a:ln w="0">
            <a:noFill/>
          </a:ln>
        </p:spPr>
      </p:pic>
      <p:pic>
        <p:nvPicPr>
          <p:cNvPr id="314" name="Рисунок 2" descr="г.jpeg"/>
          <p:cNvPicPr/>
          <p:nvPr/>
        </p:nvPicPr>
        <p:blipFill>
          <a:blip r:embed="rId2"/>
          <a:stretch/>
        </p:blipFill>
        <p:spPr>
          <a:xfrm>
            <a:off x="3772080" y="2717640"/>
            <a:ext cx="1600200" cy="142272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3" descr="л.jpeg"/>
          <p:cNvPicPr/>
          <p:nvPr/>
        </p:nvPicPr>
        <p:blipFill>
          <a:blip r:embed="rId3"/>
          <a:stretch/>
        </p:blipFill>
        <p:spPr>
          <a:xfrm>
            <a:off x="6429240" y="3357720"/>
            <a:ext cx="2306880" cy="157140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4" descr="п.jpeg"/>
          <p:cNvPicPr/>
          <p:nvPr/>
        </p:nvPicPr>
        <p:blipFill>
          <a:blip r:embed="rId4"/>
          <a:stretch/>
        </p:blipFill>
        <p:spPr>
          <a:xfrm>
            <a:off x="6215040" y="5357880"/>
            <a:ext cx="1803600" cy="104148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5" descr="р.jpeg"/>
          <p:cNvPicPr/>
          <p:nvPr/>
        </p:nvPicPr>
        <p:blipFill>
          <a:blip r:embed="rId5"/>
          <a:stretch/>
        </p:blipFill>
        <p:spPr>
          <a:xfrm>
            <a:off x="449280" y="4608360"/>
            <a:ext cx="3408480" cy="21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165240" y="146160"/>
            <a:ext cx="86500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6374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c800"/>
              </a:solidFill>
              <a:latin typeface="Corbel"/>
            </a:endParaRPr>
          </a:p>
        </p:txBody>
      </p:sp>
      <p:pic>
        <p:nvPicPr>
          <p:cNvPr id="321" name="Рисунок 2" descr="Dodecahedron and Pentagonal Star.jpg"/>
          <p:cNvPicPr/>
          <p:nvPr/>
        </p:nvPicPr>
        <p:blipFill>
          <a:blip r:embed="rId1"/>
          <a:srcRect l="17968" t="6156" r="17968" b="6151"/>
          <a:stretch/>
        </p:blipFill>
        <p:spPr>
          <a:xfrm>
            <a:off x="1000080" y="1428840"/>
            <a:ext cx="70009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255600" y="73080"/>
            <a:ext cx="8437680" cy="133488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2" descr="0_e068_93ce4ef2_XL.jpeg"/>
          <p:cNvPicPr/>
          <p:nvPr/>
        </p:nvPicPr>
        <p:blipFill>
          <a:blip r:embed="rId2"/>
          <a:stretch/>
        </p:blipFill>
        <p:spPr>
          <a:xfrm>
            <a:off x="0" y="1357200"/>
            <a:ext cx="5286240" cy="395316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3" descr="cfoto.png"/>
          <p:cNvPicPr/>
          <p:nvPr/>
        </p:nvPicPr>
        <p:blipFill>
          <a:blip r:embed="rId3"/>
          <a:stretch/>
        </p:blipFill>
        <p:spPr>
          <a:xfrm>
            <a:off x="0" y="4881600"/>
            <a:ext cx="1976400" cy="197640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4" descr="flagThumb.jpeg"/>
          <p:cNvPicPr/>
          <p:nvPr/>
        </p:nvPicPr>
        <p:blipFill>
          <a:blip r:embed="rId4"/>
          <a:stretch/>
        </p:blipFill>
        <p:spPr>
          <a:xfrm>
            <a:off x="5286240" y="4643280"/>
            <a:ext cx="3429000" cy="221472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5" descr="geo-ax2.png"/>
          <p:cNvPicPr/>
          <p:nvPr/>
        </p:nvPicPr>
        <p:blipFill>
          <a:blip r:embed="rId5"/>
          <a:stretch/>
        </p:blipFill>
        <p:spPr>
          <a:xfrm>
            <a:off x="6072120" y="1571760"/>
            <a:ext cx="3071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5:26:03Z</dcterms:created>
  <dc:creator>Катя</dc:creator>
  <dc:description/>
  <dc:language>en-US</dc:language>
  <cp:lastModifiedBy>Пользователь</cp:lastModifiedBy>
  <dcterms:modified xsi:type="dcterms:W3CDTF">2010-05-23T12:39:14Z</dcterms:modified>
  <cp:revision>5</cp:revision>
  <dc:subject/>
  <dc:title>Пятиконечные и другие звезды. </dc:title>
</cp:coreProperties>
</file>